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4630-3718-4DF6-AB55-A74D97C4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78BD-F244-4875-BFB7-2A9F6E96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3F1B-9197-40ED-86DC-988DDEB7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47C1-D38F-4E77-BDD9-2CA0DC09B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26C0-080D-47D3-9289-F897C29B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1C28-B8B4-4DED-A3F1-3BC97DE3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79D6-D88D-474C-96CC-18F064EB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4E95-0C28-4E4B-A3AB-559AAA1C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4A40-9F4C-47CE-8CCE-E535B9D9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405B-1631-42B9-B63F-E797F5EA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E10F-FD7F-45D4-83CD-5F68D9D7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9943-71D2-4ED9-8260-A38CC182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66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CC4C-C141-4DCF-A3F8-787413DDA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66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AU" sz="5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21932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ge of people survey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19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209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733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220968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5146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5-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19112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18-3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63868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30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2514600"/>
            <a:ext cx="41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419112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90920" y="57150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133720" y="228600"/>
            <a:ext cx="480060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ater Survey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81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66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AU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28600" y="2927520"/>
          <a:ext cx="6705720" cy="35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927520"/>
                    <a:ext cx="670572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 txBox="1"/>
          <p:nvPr/>
        </p:nvSpPr>
        <p:spPr>
          <a:xfrm>
            <a:off x="0" y="228600"/>
            <a:ext cx="91440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0000"/>
                    </a:gs>
                    <a:gs pos="100000">
                      <a:srgbClr val="ffff00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hen you fill a cup with water, do you drink it all  or tip some down the sink?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0000"/>
                  </a:gs>
                  <a:gs pos="100000">
                    <a:srgbClr val="ffff00"/>
                  </a:gs>
                </a:gsLst>
                <a:lin ang="81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6553080" y="28954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26668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2819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77120" y="2506680"/>
            <a:ext cx="251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sults show that only 7 people are doing the right thing and drinking their water and 9 are wasting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66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AU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0" y="2438280"/>
          <a:ext cx="6324480" cy="40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38280"/>
                    <a:ext cx="632448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 txBox="1"/>
          <p:nvPr/>
        </p:nvSpPr>
        <p:spPr>
          <a:xfrm>
            <a:off x="0" y="533520"/>
            <a:ext cx="91440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e3fa04"/>
                    </a:gs>
                    <a:gs pos="50000">
                      <a:srgbClr val="ff0000"/>
                    </a:gs>
                    <a:gs pos="100000">
                      <a:srgbClr val="e3fa04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Do you turn off the tap when you brush your teeth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e3fa04"/>
                  </a:gs>
                  <a:gs pos="50000">
                    <a:srgbClr val="ff0000"/>
                  </a:gs>
                  <a:gs pos="100000">
                    <a:srgbClr val="e3fa04"/>
                  </a:gs>
                </a:gsLst>
                <a:lin ang="81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34290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48520" y="3165480"/>
            <a:ext cx="153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2743200"/>
            <a:ext cx="266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sults show that 6 people are doing the right thing and 11 are wasting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66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-304920" y="2362320"/>
          <a:ext cx="62485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2362320"/>
                    <a:ext cx="6248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 txBox="1"/>
          <p:nvPr/>
        </p:nvSpPr>
        <p:spPr>
          <a:xfrm>
            <a:off x="0" y="228600"/>
            <a:ext cx="91440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hen your in the shower, do you wash yourself or let the nice water go on you?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2743200"/>
            <a:ext cx="2971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sults show that 4 people are doing the right thing and 9 people are doing both wash themselves and let the hot water go on you which is OK and 3 people are doing the wrong thing just letting the hot water go on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66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2514600"/>
          <a:ext cx="6019920" cy="35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14600"/>
                    <a:ext cx="601992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 txBox="1"/>
          <p:nvPr/>
        </p:nvSpPr>
        <p:spPr>
          <a:xfrm>
            <a:off x="228600" y="533520"/>
            <a:ext cx="8458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0000"/>
                    </a:gs>
                    <a:gs pos="100000">
                      <a:srgbClr val="ffff00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Do you water your garden on days you’re not allowed to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0000"/>
                  </a:gs>
                  <a:gs pos="100000">
                    <a:srgbClr val="ffff00"/>
                  </a:gs>
                </a:gsLst>
                <a:lin ang="81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26668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236232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sults show that 7 people do the wrong thing and waste water and 9 people do the right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66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ate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used in NSW for 2004-05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was 5,922 G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One Gig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itre = 1000 Megalitres. One Megalitre= One millio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litres)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tota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f 70% of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wate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as been used in agriculture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11% of wate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sage was sewage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ouseholds used 1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480" y="304920"/>
            <a:ext cx="830592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Government figures on water usage 04-05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</cp:lastModifiedBy>
  <dcterms:modified xsi:type="dcterms:W3CDTF">2009-04-23T22:57:57Z</dcterms:modified>
  <cp:revision>54</cp:revision>
  <dc:subject/>
  <dc:title>PowerPoint Presentation</dc:title>
</cp:coreProperties>
</file>